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693-436C-4EF1-B5FF-30022787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0D6-1F20-4B24-9C2B-22328A54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6A7-8B53-49E2-BCBA-0A00B6D2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F71-AC55-4F58-BA5A-731EA17F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E04-6360-4F17-BCF2-737C810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4AD6-F3AB-41C2-9B90-18BAC2E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4A88-0AB3-4B63-8700-5360D9C1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30CE-554B-48FD-9881-19E881B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0621-0F68-4291-A059-C01A0313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9D0B-5F28-4226-A6B8-310264A4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786-4094-4E84-92E7-E49DCA2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640-B280-426A-A676-576CCF5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59CF-4A77-411D-92E1-AE9CB77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CA5-DA99-4580-A110-987024E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2E8C-7879-4941-BF1B-EA9EF3A9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40F-CD12-42B5-9041-3A720F9D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8D4-3F5A-4E87-A874-1BC6972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CE3-D68A-4DFE-93ED-7D531CE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591-5F10-4517-88E3-80C6E32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C7E-D343-45D5-8EA8-3EF6E63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DF6-F22E-4072-8D2A-EA4A9C1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80D-80FF-4694-B14F-19D60B8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83C-64CA-4248-9579-A993DF00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294-F561-4AC9-BE5B-386339C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1527-9B3F-4AEE-8316-6B1C78D7F9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99F0-3C52-42E7-972D-559AD2E98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has eaten a few too many bananas today and is not sure how much he weighs.  He decides he wants to attempt the feat, but wants to place a net to catch him to play it safe.  At what point in the circle is the vine more likely to br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4508640" y="2057400"/>
          <a:ext cx="457020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5702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bot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3-g rubber stopper is attached to a 93 cm string and is swung in a horizontal circle, making one revolution in 1.18 seconds.  What is the tension in the st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4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2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67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7b46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radius is changed to 47 cm, but the speed remained constant, what would the tension be in the str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73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4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68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2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must the coefficient of friction be between the tires and the road if a car is to round a level curve of radius 125 m at a speed of 21 m/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8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t possible and the car will never make it around the cur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Will the truck stay on the road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952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, we don’t have enoug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What is the normal force on the tru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3, 333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0,000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16,66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0, 000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If the truck wanted to get airborne what speed would it need to rea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car with a mass of 1000 kg went over the same hill as the truck, what speed would it need to reach in order to get airbor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than that of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r than that of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of the jungle was dared to swing on a vine that is 8 m long and make a complete vertical circle.  If the vine he is using can only hold up to 1000 N, and George will swing at a constant speed of 7 m/s, what is the maximum mass that he can have without breaking the v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TPChart"/>
          <p:cNvGraphicFramePr/>
          <p:nvPr/>
        </p:nvGraphicFramePr>
        <p:xfrm>
          <a:off x="4572000" y="1981080"/>
          <a:ext cx="45705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81080"/>
                    <a:ext cx="4570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8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05:23Z</dcterms:created>
  <dc:creator>End User</dc:creator>
  <dc:description/>
  <dc:language>en-US</dc:language>
  <cp:lastModifiedBy>End User</cp:lastModifiedBy>
  <dcterms:modified xsi:type="dcterms:W3CDTF">2008-04-24T12:03:19Z</dcterms:modified>
  <cp:revision>11</cp:revision>
  <dc:subject/>
  <dc:title>Slide 1</dc:title>
</cp:coreProperties>
</file>